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E47-4484-4080-B380-7F83641B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4A5-D8D9-40E2-A621-5CB99C1B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B8B-C87C-4F56-8856-9DFF02B9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132-8E55-4FE8-845C-4194D722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A95-DB34-4633-8574-EC7A0702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ABB-3CE7-402B-AF09-20A4D2CF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9D5-8253-4E6F-9506-7DA77D9A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153-EC67-4C1A-A2F3-313DCA30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D52-0E81-4934-B401-E079378F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822-D1A3-46E4-B105-7545D46D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65F-70B1-4506-93C8-AA100450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A01-DD80-4DAD-A077-E521FB4D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A0DE-0217-4B73-BD14-F59CA4766C7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852640"/>
            <a:ext cx="1366920" cy="2232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40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465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6072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60720" y="29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0720" y="33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6072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1844640"/>
            <a:ext cx="1366920" cy="2232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6072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8000" y="40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4365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4653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4005360"/>
            <a:ext cx="647640" cy="86364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3860640"/>
            <a:ext cx="504720" cy="8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34920" y="1892160"/>
            <a:ext cx="2197080" cy="2760840"/>
          </a:xfrm>
          <a:custGeom>
            <a:avLst/>
            <a:gdLst/>
            <a:ahLst/>
            <a:rect l="l" t="t" r="r" b="b"/>
            <a:pathLst>
              <a:path w="1384" h="1739">
                <a:moveTo>
                  <a:pt x="23" y="1467"/>
                </a:moveTo>
                <a:cubicBezTo>
                  <a:pt x="11" y="1179"/>
                  <a:pt x="0" y="892"/>
                  <a:pt x="23" y="696"/>
                </a:cubicBezTo>
                <a:cubicBezTo>
                  <a:pt x="46" y="500"/>
                  <a:pt x="23" y="364"/>
                  <a:pt x="159" y="288"/>
                </a:cubicBezTo>
                <a:cubicBezTo>
                  <a:pt x="295" y="212"/>
                  <a:pt x="636" y="0"/>
                  <a:pt x="840" y="242"/>
                </a:cubicBezTo>
                <a:cubicBezTo>
                  <a:pt x="1044" y="484"/>
                  <a:pt x="1293" y="1482"/>
                  <a:pt x="1384" y="17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2492280"/>
            <a:ext cx="1163520" cy="2700360"/>
          </a:xfrm>
          <a:custGeom>
            <a:avLst/>
            <a:gdLst/>
            <a:ahLst/>
            <a:rect l="l" t="t" r="r" b="b"/>
            <a:pathLst>
              <a:path w="733" h="1701">
                <a:moveTo>
                  <a:pt x="144" y="1096"/>
                </a:moveTo>
                <a:cubicBezTo>
                  <a:pt x="72" y="646"/>
                  <a:pt x="0" y="196"/>
                  <a:pt x="53" y="98"/>
                </a:cubicBezTo>
                <a:cubicBezTo>
                  <a:pt x="106" y="0"/>
                  <a:pt x="363" y="272"/>
                  <a:pt x="461" y="506"/>
                </a:cubicBezTo>
                <a:cubicBezTo>
                  <a:pt x="559" y="740"/>
                  <a:pt x="598" y="1307"/>
                  <a:pt x="643" y="1504"/>
                </a:cubicBezTo>
                <a:cubicBezTo>
                  <a:pt x="688" y="1701"/>
                  <a:pt x="710" y="1693"/>
                  <a:pt x="733" y="16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8244600">
            <a:off x="2916000" y="5229000"/>
            <a:ext cx="360360" cy="2872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8244600">
            <a:off x="3274560" y="4652640"/>
            <a:ext cx="360360" cy="2872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376400">
            <a:off x="826560" y="4004640"/>
            <a:ext cx="289080" cy="4316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376400">
            <a:off x="1763280" y="3860280"/>
            <a:ext cx="289080" cy="4320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2924280"/>
            <a:ext cx="504720" cy="86364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6720" y="4941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5302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558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3860640"/>
            <a:ext cx="1366920" cy="2232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457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4869000"/>
            <a:ext cx="505080" cy="86364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869000"/>
            <a:ext cx="50508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2278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2360" y="1557360"/>
            <a:ext cx="1366920" cy="2232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2278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2565360"/>
            <a:ext cx="504720" cy="86364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6000" y="2565360"/>
            <a:ext cx="504720" cy="86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2924280"/>
            <a:ext cx="504720" cy="863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2278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4221000"/>
            <a:ext cx="1582920" cy="2089440"/>
          </a:xfrm>
          <a:custGeom>
            <a:avLst/>
            <a:gdLst>
              <a:gd name="textAreaLeft" fmla="*/ 77040 w 1582920"/>
              <a:gd name="textAreaRight" fmla="*/ 1505880 w 1582920"/>
              <a:gd name="textAreaTop" fmla="*/ 77040 h 2089440"/>
              <a:gd name="textAreaBottom" fmla="*/ 2012400 h 2089440"/>
            </a:gdLst>
            <a:ahLst/>
            <a:rect l="textAreaLeft" t="textAreaTop" r="textAreaRight" b="textAreaBottom"/>
            <a:pathLst>
              <a:path w="21600" h="28510">
                <a:moveTo>
                  <a:pt x="3600" y="0"/>
                </a:moveTo>
                <a:arcTo wR="3600" hR="3600" stAng="16200000" swAng="-5400000"/>
                <a:lnTo>
                  <a:pt x="0" y="24910"/>
                </a:lnTo>
                <a:arcTo wR="3600" hR="3600" stAng="10800000" swAng="-5400000"/>
                <a:lnTo>
                  <a:pt x="18000" y="28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14560" y="4365720"/>
            <a:ext cx="107964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0560" y="5302080"/>
            <a:ext cx="649440" cy="576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4920" y="5518080"/>
            <a:ext cx="360360" cy="142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595008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595008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372360" y="515772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48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mi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187280" y="1412640"/>
            <a:ext cx="21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11858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219640" y="5734080"/>
            <a:ext cx="2872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638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908000" y="5805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661000"/>
            <a:ext cx="194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Voltag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urrent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300720" y="1628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141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5:52:16Z</dcterms:created>
  <dc:creator>SuperXP</dc:creator>
  <dc:description/>
  <dc:language>en-US</dc:language>
  <cp:lastModifiedBy>SuperXP</cp:lastModifiedBy>
  <dcterms:modified xsi:type="dcterms:W3CDTF">2008-11-10T16:35:25Z</dcterms:modified>
  <cp:revision>2</cp:revision>
  <dc:subject/>
  <dc:title>投影片 1</dc:title>
</cp:coreProperties>
</file>